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D4D-6771-4555-9D70-0C05A8F8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397-641A-4133-883C-FA11CD1F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9A5-FB5D-4A6D-A83F-0419EE85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105C-A9B3-4FB4-9CCC-3F0264D7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871-CFCD-4119-9B2C-365BA13C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790F-6E8F-4F4B-B5FD-837E74EB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17EB-616D-4E52-B625-2283E551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FAFA-CC0D-431B-9AF2-C85A8E75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A5AF-1261-4947-8056-C782C208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FB3-C9BF-41C4-AF8E-5A0B8E43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0744-34F7-44F0-A9F1-7B177BC8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08B1-2F8B-4016-A1B0-A809EC15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8305-672D-408B-AF68-8CD29FA16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werner\fkfo\borg.exe" TargetMode="External"/><Relationship Id="rId3" Type="http://schemas.openxmlformats.org/officeDocument/2006/relationships/hyperlink" Target="d:\werner\CBorg\borg.exe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flow structures in Distributed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Technology Lab (PROG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ement Informatica (DINF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rije Universiteit Brussel (VU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ippe Demae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ve 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derstand Receive(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the structure is too explic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or should be a control flow 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passing convention is hardcoded  ==&gt; control flow too explic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8288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with pipel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666880"/>
            <a:ext cx="7543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meCheck():{prime: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eive(aNumber,primeTo,nonPrimeTo)::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prime = 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SetLocalPrime(aNumb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meTo.GetResult(prime)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if((not ((aNumber\\prime)=0)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nPrimeTo.GetResult(aNumber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)}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gentclone(clone()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8288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t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819520"/>
            <a:ext cx="78487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Generator(from,to, name):{ next: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ndInfo(target,info):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rget.GetResult(inf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(target)::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t:from, t:=t+1, t&lt;to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ndInfo(target,t))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gentclone(clone(), 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8288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proposed solu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s:[g,s1,s2,s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:Pipeline(components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s:[g,disp,s1,disp,s2,disp,s3,disp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:Pipeline(compone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&gt; p.Star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ole, ”Receive”,”GetResult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8288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828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09480" y="1905120"/>
          <a:ext cx="78487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905120"/>
                    <a:ext cx="78487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FT using same pip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cFFT(name, stageNr) :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c(coeffs, displayTo, resultTo)::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ompute coefficien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to.SendToNext(info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gentclone(clone(), name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8288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586728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44197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s:[g, FFT1, FFT2, ...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peline(components,”Calc”,”SendToNext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pipeline structur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end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use of mig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: components are in Zimbab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You can declare the pipeline locally an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send the pipes to Zimbabw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more perform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8288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Work &amp; Thesi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other applications and de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Namesp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bo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Que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Dispat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8288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Work &amp; Thesi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ing out what happens when working with other na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isation natives (sync, send, rec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goal is to detect appropriate control flow structu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structure (many to 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 casting (one to m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 (many to many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8288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 (internal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pe(n, posPipe, nextAgent,nextNegPipe)::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ndResultToNext@args::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o : args[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s : read("rcv." + n + "()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s[1] := nextAg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 : mss[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[2] := [info, posPipe, nextNegPip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al(mss)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st : make(1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st[1] := read(callbackName+"@args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st[2] := SendResultToNext[3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al(cs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gentclone(clone(), name)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8288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ut distributed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 area network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grams on remote machines can’t be al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 wise (application consists of interconnected compone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s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crawl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veral search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atching within HTTPD daemons (to cgi’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8288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525780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572000"/>
            <a:ext cx="563868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kind of control flow handl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often more needed than anticip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 handlers are often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flow code hardcoded in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components that were written by other program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control flow structures are needed to write distributed programs in an easier w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OP (You don’t posses the remot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 is to go a level higher than concurrency primi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18288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ing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the control flow of some ‘simple’ programs to extract primitiv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.g. pipelin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s written in Cb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8288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b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ynchronous sends in Cborg: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agent&gt;.&lt;callee&gt;(&lt;pars&gt;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… no result is returned this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an be solved using callbac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8288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backs in Cb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819520"/>
            <a:ext cx="5029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:remotedict(“tecra/ses2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swer(b)::display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.calcdet([[1,8],[5,6]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gentself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78600" y="2895480"/>
            <a:ext cx="4025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lcdet(matrx,cb):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b.answer(matr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"/>
          </p:cNvPr>
          <p:cNvSpPr/>
          <p:nvPr/>
        </p:nvSpPr>
        <p:spPr>
          <a:xfrm>
            <a:off x="5942160" y="2133720"/>
            <a:ext cx="158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ra/ses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"/>
          </p:cNvPr>
          <p:cNvSpPr/>
          <p:nvPr/>
        </p:nvSpPr>
        <p:spPr>
          <a:xfrm>
            <a:off x="1676520" y="2133720"/>
            <a:ext cx="167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ra/ses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2666880"/>
            <a:ext cx="0" cy="335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8288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eveComp(next):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me: 0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eive(aNumber)::{if (prime = 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SetPrime(aNumb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play(prime)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if((not ((aNumber\\prime)=0)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.Receive(aNumber),void)})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gentclone(clone()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8288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33526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Collecto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3: Sievecomp(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: Sievecomp(s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: Sievecomp(s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: Generator(s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tar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8288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t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1981080"/>
            <a:ext cx="48765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at to do if we want to extend the functionality (e.g display between components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4724280"/>
            <a:ext cx="7924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component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derstands Rece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ith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ame parameter struct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structure must be al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1T00:24:36Z</dcterms:created>
  <dc:creator>EDS Belgium N.V.</dc:creator>
  <dc:description/>
  <dc:language>en-US</dc:language>
  <cp:lastModifiedBy>Werner Van Belle</cp:lastModifiedBy>
  <cp:lastPrinted>1999-09-03T19:31:39Z</cp:lastPrinted>
  <dcterms:modified xsi:type="dcterms:W3CDTF">1999-10-21T14:04:28Z</dcterms:modified>
  <cp:revision>40</cp:revision>
  <dc:subject/>
  <dc:title>Positie Optimalisaties Mobiele Multi Agent Systemen</dc:title>
</cp:coreProperties>
</file>